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381-1D3D-4FF7-AB6C-0F32DBBF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591-7B5A-4D0A-9B0B-C7072FAA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C42-3B5C-4801-BD0A-78EC498E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478-BD33-4FCD-B254-BB270A06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1261-78C5-4707-90E3-8659FFF8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BF80-C7E1-4451-B655-351F6099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0001-5EF5-42B8-BCF3-9C6E0B10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DB11-69D5-4B27-8359-E628225B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A9D9-AE4D-4224-887C-9C932091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9D04-CE11-4AF3-AB1B-4B7EEA31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4A14-F8B9-4361-8DA2-661F907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101-0539-4E92-B75B-C79D4613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560F-F0F3-4AB6-81F5-C015DE19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83F-85D5-4053-8705-A149E69E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586E-8C68-4D0F-821A-735D06E0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0304-83AC-4BAC-B676-F4BFF379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0162-680B-4C89-B142-459C0223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F86-F1E3-400B-973C-7C553AFF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EA9-4B39-407F-9496-B0954F2C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04F-7E27-4085-AA07-D2FA21C0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013-B0EE-4F29-9196-939D2B51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FB2-FC9D-47C6-BE22-0DCEC0E1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589-7B24-428B-8CDA-5FDA61C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4CC-52E0-451E-AEAE-ED246EBC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78E6-4556-435B-B352-51D65188B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79A0-8D91-4E9E-91FA-2653ADFA8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ccecff"/>
                </a:solidFill>
                <a:latin typeface="Garamond"/>
              </a:rPr>
              <a:t>THE ROAD TO REVOLUTION -1763-1778</a:t>
            </a:r>
            <a:endParaRPr b="0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>
            <a:lum contrast="6000"/>
          </a:blip>
          <a:srcRect l="0" t="0" r="0" b="5066"/>
          <a:stretch/>
        </p:blipFill>
        <p:spPr>
          <a:xfrm>
            <a:off x="457200" y="2514600"/>
            <a:ext cx="2511360" cy="354168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Menace Of Mercantilism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side to Mercanti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urt economic initi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 planters were treated more favorab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h Crop farmers forced into 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antilism was humiliating to Americ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Stamp Tax Uproar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war, Brits wanted to start taxing the American Colon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what Purpo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Grenville ordered End of Salutary Negl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A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494400" y="2209680"/>
            <a:ext cx="23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New Mercantilist Laws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Act—176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ing Act of 176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cy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mp Act —176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ct became the most h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aramond"/>
              </a:rPr>
              <a:t>Stamp Act</a:t>
            </a: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t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t antag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view of its fai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view of its fai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xation without 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tual 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1731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Parliament Forced To Repeal The Stamp Act</a:t>
            </a: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mp Act Congress of 176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importation agreements of British goo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s of Liberty and Daughters of Liber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atory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>
            <a:lum contrast="6000"/>
          </a:blip>
          <a:srcRect l="1851" t="1406" r="2078" b="4758"/>
          <a:stretch/>
        </p:blipFill>
        <p:spPr>
          <a:xfrm>
            <a:off x="457200" y="1905120"/>
            <a:ext cx="4124160" cy="320184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685800" y="54864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rring and Feathering a Tax Stamp A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The Townshend Tea Tax And The Boston Massacre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les “Champagne Charlie” Townsend emerges as P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767 he persuades Parliament to pass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wnshend A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is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68 British officials landed 2 regiments of troops (700) in Bost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860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oston Massacre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2151" t="0" r="0" b="0"/>
          <a:stretch/>
        </p:blipFill>
        <p:spPr>
          <a:xfrm>
            <a:off x="1447920" y="1066680"/>
            <a:ext cx="6095880" cy="538668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The Seditious Committees Of Correspondence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wnsend Acts were a fail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70 Townshend Acts repealed. But the tax on tea rem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 Adams, master propagand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the loc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ittees of Correspond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M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d to Inter-colonial committees of correspon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960640" cy="4525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61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Ad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oston Tea Part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9520" y="15998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73 the British East India Company had a big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Parliament try to remedy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as Parliament so motivated to fix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114640" cy="2362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335268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ea Act 1773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gave BEIC a complete monopoly on the American tea busine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sell tea more cheaply than the smuggled tea, even with the tax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ts out the American middle-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ers colonists. Americans see as a trick to make the tax pala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022800" y="1752480"/>
            <a:ext cx="2436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DEEP ROOTS OF REVOLUTION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Revolution was a revolution in thought and perception about who the colonists w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s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oston Tea Part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tea cargo of the Company reached its destina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polis — colonis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ned cargo and the 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leston—Governor stores in a warehouse.  Is eventually sold during the war to pay for uni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s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 of white townspeople dressed as Indians boarded the 3 tea ships on Dec. 6, 1773. They smashed 342 chests and dumped the tea into Boston harbor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ston Tea par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oston Tea Part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4200" y="1414440"/>
            <a:ext cx="8686800" cy="523872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Response to Boston Tea Part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of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of 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lerable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ton Port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. Government 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ing 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. of Just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Quebec Act - 1774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 of the Intolerable Acts. But passed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it s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believed it was “intolerable” and designed to punish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1371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aramond"/>
              </a:rPr>
              <a:t>Quebec Before and After 1774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7086600" cy="615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Continental Congress And Bloodshed</a:t>
            </a: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74--In response to the Intolerable Acts colonists cal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rst Continental Cong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 in Philadelphia to discus ways of redressing colonial griev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of 13 colonies sent 55 m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w up a Declaration of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Continental Congress And Bloodshed</a:t>
            </a: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124080" y="159984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ental Congress helped creat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sso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 to get Brits to repeal the Intolerable Acts and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for a complete boycott of British goods. non-import, non-export and non-consum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a move toward u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Lexington and Concord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5627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 Ad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Hanc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Rev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Heard Round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1676520"/>
            <a:ext cx="5181480" cy="367956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Lexington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70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Strengths and Weaknesses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Str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Weak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tr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Weak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48320" y="2335320"/>
            <a:ext cx="403848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Garamond"/>
              </a:rPr>
              <a:t>THE MERCANTILE THEORY</a:t>
            </a: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of all major European nations from 16th 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8th cent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antilism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that wealth was power and that a country’s economic wealth (both military and political power) could be measured by the amount of gold or silver in its treasu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31240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A THIN LINE OF HEROES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3905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Garamond"/>
              </a:rPr>
              <a:t>Mercantilism</a:t>
            </a:r>
            <a:br>
              <a:rPr sz="2800"/>
            </a:b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Elements of the Theory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et gold, must export more than im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provide export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provide source for raw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can’t trade with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es can’t produce their own finished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colonies to produce what mother country must im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Mercantilism Trammels On Trade 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ament passed many laws to enforce the mercant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vigation La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famo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Money Problem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6483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urrency came from out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use British, French and Spanish Co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buying more than could sell under Mercantile policies, so chronic shortage of hard curr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24955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The Money Problem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colonists use for currency besides co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eve of revolution, colonies issue paper money of dubious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value “dubious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ament eventually bans, which is one more grievance of col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Merits of Mercantilism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utary Negl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bert Walp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ugg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did reap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direct benefits from Mercanti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27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Garamond"/>
              </a:rPr>
              <a:t>Benefits of Mercantilism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 supports and subsidies helped them compete against the Europe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bacco monopo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rights of Englishmen and opportunities for self-gover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strong British army and N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perity trickled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3:45:34Z</dcterms:created>
  <dc:creator>John Steere</dc:creator>
  <dc:description/>
  <dc:language>en-US</dc:language>
  <cp:lastModifiedBy>Mark A. Jenkins</cp:lastModifiedBy>
  <dcterms:modified xsi:type="dcterms:W3CDTF">2008-02-07T14:35:28Z</dcterms:modified>
  <cp:revision>19</cp:revision>
  <dc:subject/>
  <dc:title> THE ROAD TO REVOLUTION -1763-1778</dc:title>
</cp:coreProperties>
</file>